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6.wmf" ContentType="image/x-wmf"/>
  <Override PartName="/ppt/media/image5.jpeg" ContentType="image/jpeg"/>
  <Override PartName="/ppt/media/image11.wmf" ContentType="image/x-wmf"/>
  <Override PartName="/ppt/media/image17.jpeg" ContentType="image/jpeg"/>
  <Override PartName="/ppt/media/image3.png" ContentType="image/png"/>
  <Override PartName="/ppt/media/image28.jpeg" ContentType="image/jpeg"/>
  <Override PartName="/ppt/media/image7.jpeg" ContentType="image/jpeg"/>
  <Override PartName="/ppt/media/image30.jpeg" ContentType="image/jpeg"/>
  <Override PartName="/ppt/media/image24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1428-D923-4247-A8ED-CF8E44386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18CB-D746-4F0D-8629-7A8F4FF2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F71C-5F1A-41D7-AD51-53C113C0E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FDA5-A94C-40A9-B00B-A7C41A5C2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32B2-DF74-4FB7-9497-77282654D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E8FB-0602-4444-89AE-DEAA6360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25592-A179-4781-BF1B-C30C7299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76BD-79FC-437F-ADAD-89F3C328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93ED-DCB9-4821-8785-F73B8834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26DB-AD6C-4823-B663-90873448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684E-E058-481D-B106-6798E6ED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14A3-B55B-4E76-806C-36771224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2182-02C1-481D-A837-30D8F2ED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9F1C-B4C7-4E88-9588-D6DA6035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135B1-557E-408C-AEA2-F8087B33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CE4C-E8D1-496B-A4CC-803582EBA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389C-090C-4584-B539-EFB6FDFDF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56F54-25BE-43FE-985A-07E09942B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E8390-9E45-49C8-A42E-F49671DA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83C21-30A8-4326-B4E7-BC18FD82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EA8B2-7A06-4BCD-A08F-0C822F6F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4F998-7CB3-417A-9992-943B275A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AA80-9033-4066-892B-38B4F2A9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E8343-8DB2-432B-8E9E-AEADE4E7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6A1C6-AE6B-4876-BAC6-358CE875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6D70D-5B04-4DDD-8924-CD2AB2B2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C5072-3D83-45B3-B947-412CF888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7A06D-24F7-4F05-8EB2-38A431D6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89E07-8A9A-4C1B-8484-A003A5E20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74400-D2EF-4195-8883-C095D426E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2FE81-DA87-4B36-B00C-C2AF93986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606DD-2BB2-4EEA-9BD1-708FEF44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CAB1E-5B33-45BC-8798-3F4A25E1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8CA3-4685-43FB-87A0-BB3484CA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053DF-65B2-4981-8A44-0C72753C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704E7-5805-4CE3-B5FB-8A92757B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F3F42-4B01-4093-83F2-0ED8FE6D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A7512-42B8-4E0D-938E-661BC099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1147C-2431-4F76-B98A-11C796A3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290E2-93D3-4BC1-A82C-E0887CDB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94FB5-B280-4DA9-B40B-FB5BD651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24BDC-F623-44E3-BA93-B7F71A856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64883-93FA-4471-9E9A-DE6633916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1654-0270-4D41-A8B4-B410B542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5873-003A-418B-A53B-D7D67A82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BBE7-09A3-461D-A38C-204C2B98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2038-9A8C-431A-A4EA-445A6426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00E8-291A-47EA-8DE6-E91E5BBA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CDDD-C5FF-4EB1-BEED-0772C2B57B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2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AF7B-3AF4-407C-B1B0-A1F508C33C6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6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2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3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1549-8556-4181-B38C-A33EB3D13B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07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CB61-94DC-4A62-A406-6A6A0C2C7A8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258560" y="326520"/>
            <a:ext cx="7885080" cy="26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Работа выполнена в рамках проекта  повышения квалификации различных категорий работников образования и формирования у них базовой педагогической ИКТ – компетентности по программ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« Информационные технологии в деятельности учителя предметник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1763640" y="4287960"/>
            <a:ext cx="7156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Авт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Тематическое план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Урок. Итоговое занят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Тест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Ресурс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6" descr="oblcit"/>
          <p:cNvPicPr/>
          <p:nvPr/>
        </p:nvPicPr>
        <p:blipFill>
          <a:blip r:embed="rId1"/>
          <a:stretch/>
        </p:blipFill>
        <p:spPr>
          <a:xfrm>
            <a:off x="250920" y="326880"/>
            <a:ext cx="1344600" cy="13446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11"/>
          <p:cNvSpPr/>
          <p:nvPr/>
        </p:nvSpPr>
        <p:spPr>
          <a:xfrm>
            <a:off x="537840" y="3297240"/>
            <a:ext cx="922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Изобразительное искусство. 7 клас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Скругленный прямоугольник 5"/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Object 7" descr=""/>
          <p:cNvPicPr/>
          <p:nvPr/>
        </p:nvPicPr>
        <p:blipFill>
          <a:blip r:embed="rId1"/>
          <a:stretch/>
        </p:blipFill>
        <p:spPr>
          <a:xfrm>
            <a:off x="2881440" y="603360"/>
            <a:ext cx="3381120" cy="485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2" descr="bs-aaw-TomPerkinson-KatsinaWithButterfly"/>
          <p:cNvPicPr/>
          <p:nvPr/>
        </p:nvPicPr>
        <p:blipFill>
          <a:blip r:embed="rId2"/>
          <a:stretch/>
        </p:blipFill>
        <p:spPr>
          <a:xfrm>
            <a:off x="5148360" y="0"/>
            <a:ext cx="399564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17"/>
          <p:cNvSpPr/>
          <p:nvPr/>
        </p:nvSpPr>
        <p:spPr>
          <a:xfrm>
            <a:off x="0" y="260280"/>
            <a:ext cx="5076720" cy="87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</a:t>
            </a: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Все жанр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 </a:t>
            </a: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искусства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  </a:t>
            </a: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хороши, кроме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            </a:t>
            </a: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скучного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Arbat"/>
              </a:rPr>
              <a:t>но скука - не жанр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20000"/>
                </a:solidFill>
                <a:latin typeface="Arbat"/>
              </a:rPr>
              <a:t>            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20000"/>
                </a:solidFill>
                <a:latin typeface="Arbat"/>
              </a:rPr>
              <a:t>               </a:t>
            </a:r>
            <a:r>
              <a:rPr b="0" lang="ru-RU" sz="3600" spc="-1" strike="noStrike">
                <a:solidFill>
                  <a:srgbClr val="ffcc00"/>
                </a:solidFill>
                <a:latin typeface="Arbat"/>
              </a:rPr>
              <a:t>Вольт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7672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Comic Sans MS"/>
              </a:rPr>
              <a:t>     </a:t>
            </a:r>
            <a:r>
              <a:rPr b="0" lang="ru-RU" sz="4400" spc="-1" strike="noStrike">
                <a:solidFill>
                  <a:srgbClr val="ffcc00"/>
                </a:solidFill>
                <a:latin typeface="Comic Sans MS"/>
              </a:rPr>
              <a:t>Портрет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(франц.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portrait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), изображение человека или группы людей; в изобразительном искусстве один из жанров, в котором воссоздается человеческая индивидуальност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2" name="Picture 7" descr="1"/>
          <p:cNvPicPr/>
          <p:nvPr/>
        </p:nvPicPr>
        <p:blipFill>
          <a:blip r:embed="rId1"/>
          <a:stretch/>
        </p:blipFill>
        <p:spPr>
          <a:xfrm>
            <a:off x="4788000" y="1628640"/>
            <a:ext cx="4071960" cy="47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533920" y="2599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Comic Sans MS"/>
              </a:rPr>
              <a:t>Пейзаж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8360" y="2004480"/>
            <a:ext cx="4330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(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франц. pays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), вид, изображение какой-либо местности; в живописи и графике жанр, в котором основной предмет изображения — природа. Часто изображаются виды городов или архитектурных комплексов (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архитектурный пейзаж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ведута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), морские виды (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марина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5" name="Picture 7" descr="1"/>
          <p:cNvPicPr/>
          <p:nvPr/>
        </p:nvPicPr>
        <p:blipFill>
          <a:blip r:embed="rId1"/>
          <a:stretch/>
        </p:blipFill>
        <p:spPr>
          <a:xfrm>
            <a:off x="5076720" y="1628640"/>
            <a:ext cx="367848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148000" y="274320"/>
            <a:ext cx="38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Comic Sans MS"/>
              </a:rPr>
              <a:t>Натюрморт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537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(франц.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Monotype Corsiva"/>
              </a:rPr>
              <a:t>nature morte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, букв. — мертвая природа), жанр изобразительного искусства (главным образом станковой живописи), посвященный изображению неодушевленных предметов (утварь, плоды, дичь, букеты цветов, атрибуты какой-либо деятельности и т. д.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8" name="Picture 7" descr="1"/>
          <p:cNvPicPr/>
          <p:nvPr/>
        </p:nvPicPr>
        <p:blipFill>
          <a:blip r:embed="rId1"/>
          <a:stretch/>
        </p:blipFill>
        <p:spPr>
          <a:xfrm>
            <a:off x="5292720" y="1628640"/>
            <a:ext cx="354348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20000"/>
                </a:solidFill>
                <a:latin typeface="Monotype Corsiva"/>
              </a:rPr>
              <a:t>                            </a:t>
            </a:r>
            <a:r>
              <a:rPr b="1" i="1" lang="ru-RU" sz="5400" spc="-1" strike="noStrike">
                <a:solidFill>
                  <a:srgbClr val="ffcc00"/>
                </a:solidFill>
                <a:latin typeface="Monotype Corsiva"/>
              </a:rPr>
              <a:t>Скульптур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( от лат.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sculpo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—высекаю),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вид изобразительного искусства, произведения которого имеют объемную, трехмерную форму и выполняются из твердых или пластических материалов. Скульптура изображает главным образом человека, реже животны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       </a:t>
            </a:r>
            <a:r>
              <a:rPr b="0" lang="ru-RU" sz="3600" spc="-1" strike="noStrike">
                <a:solidFill>
                  <a:srgbClr val="ffcc00"/>
                </a:solidFill>
                <a:latin typeface="Monotype Corsiva"/>
              </a:rPr>
              <a:t>Художественные  средства скульптур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построение объемной формы, пластическая моделировка (лепка), разработка силуэта, фактуры, в некоторых случаях также цвета. Различаются</a:t>
            </a:r>
            <a:r>
              <a:rPr b="0" lang="ru-RU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круглая скульптура</a:t>
            </a:r>
            <a:r>
              <a:rPr b="0" lang="ru-RU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(статуя, группа, статуэтка, бюст), осматриваемая с разных сторон, и</a:t>
            </a:r>
            <a:r>
              <a:rPr b="0" lang="ru-RU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рельеф</a:t>
            </a: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(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изображение располагается на плоскости фона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                                </a:t>
            </a: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Рельеф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3" name="Rectangle 9"/>
          <p:cNvSpPr/>
          <p:nvPr/>
        </p:nvSpPr>
        <p:spPr>
          <a:xfrm>
            <a:off x="900000" y="573408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Стату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11" descr="1"/>
          <p:cNvPicPr/>
          <p:nvPr/>
        </p:nvPicPr>
        <p:blipFill>
          <a:blip r:embed="rId1"/>
          <a:stretch/>
        </p:blipFill>
        <p:spPr>
          <a:xfrm>
            <a:off x="539640" y="519120"/>
            <a:ext cx="3867120" cy="52149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3" descr="1"/>
          <p:cNvPicPr/>
          <p:nvPr/>
        </p:nvPicPr>
        <p:blipFill>
          <a:blip r:embed="rId2"/>
          <a:stretch/>
        </p:blipFill>
        <p:spPr>
          <a:xfrm>
            <a:off x="5148360" y="1341360"/>
            <a:ext cx="347004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                      </a:t>
            </a:r>
            <a:r>
              <a:rPr b="1" i="1" lang="ru-RU" sz="5400" spc="-1" strike="noStrike">
                <a:solidFill>
                  <a:srgbClr val="ffcc00"/>
                </a:solidFill>
                <a:latin typeface="Monotype Corsiva"/>
              </a:rPr>
              <a:t>Архитектур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1280" y="2332080"/>
            <a:ext cx="822960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(от греч.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architekthon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— строитель),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искусство проектировать и строить здания и др. сооружения , создающие среду, необходимую людям для их жизни и деятельности, в соответствии с назначением общества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   </a:t>
            </a:r>
            <a:r>
              <a:rPr b="0" lang="ru-RU" sz="3600" spc="-1" strike="noStrike">
                <a:solidFill>
                  <a:srgbClr val="ffcc00"/>
                </a:solidFill>
                <a:latin typeface="Monotype Corsiva"/>
              </a:rPr>
              <a:t>Выразительные средства архитектуры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— композиция, тектоника, масштаб, пропорции, ритм, пластика объемов, фактура и цвет материалов.  В архитектуре взаимосвязаны функциональные, технические, эстетические начала (польза, прочность, красота 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Храм Василия Блаженного в Москве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0" name="Rectangle 10"/>
          <p:cNvSpPr/>
          <p:nvPr/>
        </p:nvSpPr>
        <p:spPr>
          <a:xfrm>
            <a:off x="5003640" y="4365720"/>
            <a:ext cx="414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Портик Нов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Эрмитажа 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Санкт–Петербург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12" descr="1"/>
          <p:cNvPicPr/>
          <p:nvPr/>
        </p:nvPicPr>
        <p:blipFill>
          <a:blip r:embed="rId1"/>
          <a:stretch/>
        </p:blipFill>
        <p:spPr>
          <a:xfrm>
            <a:off x="395280" y="1916280"/>
            <a:ext cx="4027320" cy="4484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4" descr="1"/>
          <p:cNvPicPr/>
          <p:nvPr/>
        </p:nvPicPr>
        <p:blipFill>
          <a:blip r:embed="rId2"/>
          <a:srcRect l="0" t="0" r="0" b="-265"/>
          <a:stretch/>
        </p:blipFill>
        <p:spPr>
          <a:xfrm>
            <a:off x="5003640" y="549360"/>
            <a:ext cx="3834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140360" y="3212640"/>
            <a:ext cx="374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ргеев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тьян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иколае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140360" y="4508280"/>
            <a:ext cx="47512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подаваемый предмет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образительное искусство (ИЗО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аж работы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5 ле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влечения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шивание, вязани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ет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1258920" y="333360"/>
            <a:ext cx="7885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Работа выполнена в рамках проекта  повышения квалификации различных категорий работников образования и формирования у них базовой педагогической ИКТ – компетентности по программ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« Информационные технологии в деятельности учителя предметник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5" descr="oblcit"/>
          <p:cNvPicPr/>
          <p:nvPr/>
        </p:nvPicPr>
        <p:blipFill>
          <a:blip r:embed="rId1"/>
          <a:stretch/>
        </p:blipFill>
        <p:spPr>
          <a:xfrm>
            <a:off x="250920" y="33336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6"/>
          <p:cNvSpPr/>
          <p:nvPr/>
        </p:nvSpPr>
        <p:spPr>
          <a:xfrm>
            <a:off x="8163720" y="649116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7" descr="SP_A0083"/>
          <p:cNvPicPr/>
          <p:nvPr/>
        </p:nvPicPr>
        <p:blipFill>
          <a:blip r:embed="rId2"/>
          <a:stretch/>
        </p:blipFill>
        <p:spPr>
          <a:xfrm>
            <a:off x="395280" y="2997360"/>
            <a:ext cx="35989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cc"/>
                </a:solidFill>
                <a:latin typeface="Monotype Corsiva"/>
              </a:rPr>
              <a:t>                             </a:t>
            </a:r>
            <a:r>
              <a:rPr b="1" i="1" lang="ru-RU" sz="5400" spc="-1" strike="noStrike">
                <a:solidFill>
                  <a:srgbClr val="ffcc00"/>
                </a:solidFill>
                <a:latin typeface="Monotype Corsiva"/>
              </a:rPr>
              <a:t>График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50560" y="2636640"/>
            <a:ext cx="86612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от (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grapho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— пишу), вид изобразительного искусства, включающий рисунок и печатные художественные изображения (гравюра, литография и др.), основанные на искусстве рисунка и выполненные карандашом, пером или угле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3628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Monotype Corsiva"/>
              </a:rPr>
              <a:t>Выразительные средства графики</a:t>
            </a:r>
            <a:r>
              <a:rPr b="0" lang="ru-RU" sz="36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— контурная линия, штрих, пятно (иногда цветовое), фон листа, с которым изображение образует контрастное или нюансное  соотношение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                           </a:t>
            </a: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Гравюра                                   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324000" y="595008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Литограф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12" descr="1"/>
          <p:cNvPicPr/>
          <p:nvPr/>
        </p:nvPicPr>
        <p:blipFill>
          <a:blip r:embed="rId1"/>
          <a:stretch/>
        </p:blipFill>
        <p:spPr>
          <a:xfrm>
            <a:off x="324000" y="260280"/>
            <a:ext cx="3976560" cy="5764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4" descr="1"/>
          <p:cNvPicPr/>
          <p:nvPr/>
        </p:nvPicPr>
        <p:blipFill>
          <a:blip r:embed="rId2"/>
          <a:stretch/>
        </p:blipFill>
        <p:spPr>
          <a:xfrm>
            <a:off x="4788000" y="692280"/>
            <a:ext cx="3976560" cy="57909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15"/>
          <p:cNvSpPr/>
          <p:nvPr/>
        </p:nvSpPr>
        <p:spPr>
          <a:xfrm>
            <a:off x="7827840" y="649116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03240" y="230040"/>
            <a:ext cx="7556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Monotype Corsiva"/>
              </a:rPr>
              <a:t>Тест по изобразительному искусству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50560" y="1628640"/>
            <a:ext cx="8713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0" algn="ctr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Tahoma"/>
              </a:rPr>
              <a:t>Соотнесите  представителей искусства и эпоху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а. Средние века         а. Э. Неизвест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б. Новое время          б. Леонардо да  Винч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.Современность       в. Сальвадор Дали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3456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. Портр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. Натюрмор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. Пейза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Arial"/>
              </a:rPr>
              <a:t>Соотнесите  жанр искусства и репродукцию.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5919840" y="15562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3863880" y="4161600"/>
            <a:ext cx="43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9"/>
          <p:cNvSpPr/>
          <p:nvPr/>
        </p:nvSpPr>
        <p:spPr>
          <a:xfrm>
            <a:off x="6432480" y="3193200"/>
            <a:ext cx="8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б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10"/>
          <p:cNvSpPr/>
          <p:nvPr/>
        </p:nvSpPr>
        <p:spPr>
          <a:xfrm>
            <a:off x="3830400" y="41662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12"/>
          <p:cNvSpPr/>
          <p:nvPr/>
        </p:nvSpPr>
        <p:spPr>
          <a:xfrm>
            <a:off x="3773880" y="249156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13"/>
          <p:cNvSpPr/>
          <p:nvPr/>
        </p:nvSpPr>
        <p:spPr>
          <a:xfrm>
            <a:off x="6433200" y="5012280"/>
            <a:ext cx="73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в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Picture 14" descr="1"/>
          <p:cNvPicPr/>
          <p:nvPr/>
        </p:nvPicPr>
        <p:blipFill>
          <a:blip r:embed="rId1"/>
          <a:stretch/>
        </p:blipFill>
        <p:spPr>
          <a:xfrm>
            <a:off x="7164360" y="1413000"/>
            <a:ext cx="1432080" cy="14745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5" descr="Рисунок1"/>
          <p:cNvPicPr/>
          <p:nvPr/>
        </p:nvPicPr>
        <p:blipFill>
          <a:blip r:embed="rId2"/>
          <a:stretch/>
        </p:blipFill>
        <p:spPr>
          <a:xfrm>
            <a:off x="7093080" y="3141720"/>
            <a:ext cx="1492200" cy="14857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6" descr="1"/>
          <p:cNvPicPr/>
          <p:nvPr/>
        </p:nvPicPr>
        <p:blipFill>
          <a:blip r:embed="rId3"/>
          <a:stretch/>
        </p:blipFill>
        <p:spPr>
          <a:xfrm>
            <a:off x="7093080" y="4941720"/>
            <a:ext cx="160488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ru-RU" sz="3200" spc="-1" strike="noStrike">
                <a:solidFill>
                  <a:srgbClr val="ffcc00"/>
                </a:solidFill>
                <a:latin typeface="Arial"/>
              </a:rPr>
              <a:t>Укажите название репродукции и соотнесите с автором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2651400" y="3994560"/>
            <a:ext cx="384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                     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8"/>
          <p:cNvSpPr/>
          <p:nvPr/>
        </p:nvSpPr>
        <p:spPr>
          <a:xfrm flipH="1">
            <a:off x="468360" y="3428280"/>
            <a:ext cx="56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б.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2651400" y="3942360"/>
            <a:ext cx="384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                     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11"/>
          <p:cNvSpPr/>
          <p:nvPr/>
        </p:nvSpPr>
        <p:spPr>
          <a:xfrm>
            <a:off x="541800" y="4941000"/>
            <a:ext cx="61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12"/>
          <p:cNvSpPr/>
          <p:nvPr/>
        </p:nvSpPr>
        <p:spPr>
          <a:xfrm>
            <a:off x="2619360" y="4025880"/>
            <a:ext cx="390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                     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14"/>
          <p:cNvSpPr/>
          <p:nvPr/>
        </p:nvSpPr>
        <p:spPr>
          <a:xfrm>
            <a:off x="5929920" y="1988280"/>
            <a:ext cx="6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а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16"/>
          <p:cNvSpPr/>
          <p:nvPr/>
        </p:nvSpPr>
        <p:spPr>
          <a:xfrm>
            <a:off x="4000320" y="2566080"/>
            <a:ext cx="38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.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17"/>
          <p:cNvSpPr/>
          <p:nvPr/>
        </p:nvSpPr>
        <p:spPr>
          <a:xfrm>
            <a:off x="3998520" y="3985200"/>
            <a:ext cx="5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18"/>
          <p:cNvSpPr/>
          <p:nvPr/>
        </p:nvSpPr>
        <p:spPr>
          <a:xfrm>
            <a:off x="5940360" y="3429000"/>
            <a:ext cx="6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20"/>
          <p:cNvSpPr/>
          <p:nvPr/>
        </p:nvSpPr>
        <p:spPr>
          <a:xfrm>
            <a:off x="6212520" y="5949000"/>
            <a:ext cx="6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в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21"/>
          <p:cNvSpPr/>
          <p:nvPr/>
        </p:nvSpPr>
        <p:spPr>
          <a:xfrm>
            <a:off x="3939480" y="40129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22"/>
          <p:cNvSpPr/>
          <p:nvPr/>
        </p:nvSpPr>
        <p:spPr>
          <a:xfrm>
            <a:off x="4430880" y="622944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Picture 23" descr="1"/>
          <p:cNvPicPr/>
          <p:nvPr/>
        </p:nvPicPr>
        <p:blipFill>
          <a:blip r:embed="rId1"/>
          <a:stretch/>
        </p:blipFill>
        <p:spPr>
          <a:xfrm>
            <a:off x="1403280" y="1557360"/>
            <a:ext cx="1527120" cy="14526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4" descr="1"/>
          <p:cNvPicPr/>
          <p:nvPr/>
        </p:nvPicPr>
        <p:blipFill>
          <a:blip r:embed="rId2"/>
          <a:stretch/>
        </p:blipFill>
        <p:spPr>
          <a:xfrm>
            <a:off x="1403280" y="3213000"/>
            <a:ext cx="1441440" cy="14446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5" descr="1"/>
          <p:cNvPicPr/>
          <p:nvPr/>
        </p:nvPicPr>
        <p:blipFill>
          <a:blip r:embed="rId3"/>
          <a:stretch/>
        </p:blipFill>
        <p:spPr>
          <a:xfrm>
            <a:off x="1332000" y="4797360"/>
            <a:ext cx="1660320" cy="15908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6" descr="1"/>
          <p:cNvPicPr/>
          <p:nvPr/>
        </p:nvPicPr>
        <p:blipFill>
          <a:blip r:embed="rId4"/>
          <a:stretch/>
        </p:blipFill>
        <p:spPr>
          <a:xfrm>
            <a:off x="6877080" y="1341360"/>
            <a:ext cx="1809720" cy="18018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7" descr="1"/>
          <p:cNvPicPr/>
          <p:nvPr/>
        </p:nvPicPr>
        <p:blipFill>
          <a:blip r:embed="rId5"/>
          <a:srcRect l="0" t="0" r="0" b="-195"/>
          <a:stretch/>
        </p:blipFill>
        <p:spPr>
          <a:xfrm>
            <a:off x="6804000" y="3284640"/>
            <a:ext cx="1944720" cy="13935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8" descr="1"/>
          <p:cNvPicPr/>
          <p:nvPr/>
        </p:nvPicPr>
        <p:blipFill>
          <a:blip r:embed="rId6"/>
          <a:stretch/>
        </p:blipFill>
        <p:spPr>
          <a:xfrm>
            <a:off x="6877080" y="4941720"/>
            <a:ext cx="1881000" cy="17431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29"/>
          <p:cNvSpPr/>
          <p:nvPr/>
        </p:nvSpPr>
        <p:spPr>
          <a:xfrm>
            <a:off x="5940360" y="5084640"/>
            <a:ext cx="6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4720" y="290160"/>
            <a:ext cx="8136000" cy="865080"/>
          </a:xfrm>
          <a:prstGeom prst="rect">
            <a:avLst/>
          </a:prstGeom>
          <a:solidFill>
            <a:srgbClr val="3366ff">
              <a:alpha val="1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Monotype Corsiva"/>
              </a:rPr>
              <a:t>Список используемой литератур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991280" cy="4397400"/>
          </a:xfrm>
          <a:prstGeom prst="rect">
            <a:avLst/>
          </a:prstGeom>
          <a:solidFill>
            <a:srgbClr val="0033cc">
              <a:alpha val="37000"/>
            </a:srgbClr>
          </a:solidFill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.Н. Ростовцев, «Методика преподавания изобразительного искусства в школе»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998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Н.М. Сокольникова, « Основы рисунка», 1996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В.С. Кузин, «Изобразительное искусство в школе», 1995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М.Г. Дрезнина, «Каждый ребенок – художник», 2002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Т.Н. Вышинская, «Уроки рисования», 1998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ww.megabook.ru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539280" y="126792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bat"/>
              </a:rPr>
              <a:t>        </a:t>
            </a: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Искусство –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          </a:t>
            </a: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посредни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    </a:t>
            </a: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того, чего нельзя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Arbat"/>
              </a:rPr>
              <a:t>         </a:t>
            </a:r>
            <a:r>
              <a:rPr b="0" i="1" lang="ru-RU" sz="5400" spc="-1" strike="noStrike">
                <a:solidFill>
                  <a:srgbClr val="ffffff"/>
                </a:solidFill>
                <a:latin typeface="Arbat"/>
              </a:rPr>
              <a:t>высказать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Arbat"/>
              </a:rPr>
              <a:t>                          </a:t>
            </a:r>
            <a:r>
              <a:rPr b="0" i="1" lang="ru-RU" sz="4400" spc="-1" strike="noStrike">
                <a:solidFill>
                  <a:srgbClr val="ffffff"/>
                </a:solidFill>
                <a:latin typeface="Arbat"/>
              </a:rPr>
              <a:t>Гет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Monotype Corsiva"/>
              </a:rPr>
              <a:t>                    </a:t>
            </a:r>
            <a:r>
              <a:rPr b="0" i="1" lang="ru-RU" sz="5400" spc="-1" strike="noStrike">
                <a:solidFill>
                  <a:srgbClr val="ffffff"/>
                </a:solidFill>
                <a:latin typeface="Monotype Corsiva"/>
              </a:rPr>
              <a:t>Содержание урок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26920" y="1844640"/>
            <a:ext cx="763272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Виды изобразительного  искус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Живопис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ивопись и ее жан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Скульпту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Архитекту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Графи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bat"/>
              </a:rPr>
              <a:t>   </a:t>
            </a: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Виды изобразительного искусства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518320" cy="5029200"/>
          </a:xfrm>
          <a:prstGeom prst="rect">
            <a:avLst/>
          </a:prstGeom>
          <a:solidFill>
            <a:srgbClr val="0000ff">
              <a:alpha val="17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Вам,  конечно, доводилось видеть </a:t>
            </a:r>
            <a:r>
              <a:rPr b="1" i="1" lang="ru-RU" sz="2900" spc="-1" strike="noStrike">
                <a:solidFill>
                  <a:srgbClr val="ccffff"/>
                </a:solidFill>
                <a:latin typeface="Arbat"/>
              </a:rPr>
              <a:t>рисунки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карандашом или углем на бумаге, </a:t>
            </a:r>
            <a:r>
              <a:rPr b="1" i="1" lang="ru-RU" sz="2900" spc="-1" strike="noStrike">
                <a:solidFill>
                  <a:srgbClr val="ccffff"/>
                </a:solidFill>
                <a:latin typeface="Arbat"/>
              </a:rPr>
              <a:t>картины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, написанные красками на холсте, </a:t>
            </a:r>
            <a:r>
              <a:rPr b="1" i="1" lang="ru-RU" sz="2900" spc="-1" strike="noStrike">
                <a:solidFill>
                  <a:srgbClr val="ccffff"/>
                </a:solidFill>
                <a:latin typeface="Arbat"/>
              </a:rPr>
              <a:t>памятники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– гранитные и мраморные, расписные глиняные </a:t>
            </a:r>
            <a:r>
              <a:rPr b="1" i="1" lang="ru-RU" sz="2900" spc="-1" strike="noStrike">
                <a:solidFill>
                  <a:srgbClr val="ccffff"/>
                </a:solidFill>
                <a:latin typeface="Arbat"/>
              </a:rPr>
              <a:t>игрушки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, здания храмов и музеев – старинные и построенные давно.  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4360" y="4869000"/>
            <a:ext cx="8208720" cy="1503360"/>
          </a:xfrm>
          <a:prstGeom prst="rect">
            <a:avLst/>
          </a:prstGeom>
          <a:solidFill>
            <a:srgbClr val="3366ff">
              <a:alpha val="3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се это – произведения 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искусства различных его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cffff"/>
                </a:solidFill>
                <a:latin typeface="Arbat"/>
              </a:rPr>
              <a:t>видов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Object 48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3305160" cy="10540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5" descr="1"/>
          <p:cNvPicPr/>
          <p:nvPr/>
        </p:nvPicPr>
        <p:blipFill>
          <a:blip r:embed="rId2"/>
          <a:stretch/>
        </p:blipFill>
        <p:spPr>
          <a:xfrm>
            <a:off x="900000" y="189000"/>
            <a:ext cx="3543480" cy="4422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7" descr="2"/>
          <p:cNvPicPr/>
          <p:nvPr/>
        </p:nvPicPr>
        <p:blipFill>
          <a:blip r:embed="rId3"/>
          <a:stretch/>
        </p:blipFill>
        <p:spPr>
          <a:xfrm>
            <a:off x="4859280" y="189000"/>
            <a:ext cx="340200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20000"/>
                </a:solidFill>
                <a:latin typeface="Tahoma"/>
              </a:rPr>
              <a:t>                            </a:t>
            </a:r>
            <a:r>
              <a:rPr b="1" lang="ru-RU" sz="5400" spc="-1" strike="noStrike">
                <a:solidFill>
                  <a:srgbClr val="ffcc00"/>
                </a:solidFill>
                <a:latin typeface="Monotype Corsiva"/>
              </a:rPr>
              <a:t>Живопись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вид изобразительного искусства, произведения которого создаются с помощью красок, наносимых на какую-либо поверхность. 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Живопись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— важное средство художественного отражения и истолкования действительности, воздействия на мысли и чувства зрите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    </a:t>
            </a:r>
            <a:r>
              <a:rPr b="0" lang="ru-RU" sz="4000" spc="-1" strike="noStrike">
                <a:solidFill>
                  <a:srgbClr val="ffcc00"/>
                </a:solidFill>
                <a:latin typeface="Monotype Corsiva"/>
              </a:rPr>
              <a:t>Основные технические разновидности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— масляная живопись, живопись водяными красками по штукатурке — сырой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(</a:t>
            </a:r>
            <a:r>
              <a:rPr b="0" lang="ru-RU" sz="3600" spc="-1" strike="noStrike">
                <a:solidFill>
                  <a:srgbClr val="ff9900"/>
                </a:solidFill>
                <a:latin typeface="Tahoma"/>
              </a:rPr>
              <a:t>фреска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и сухой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(</a:t>
            </a:r>
            <a:r>
              <a:rPr b="0" lang="ru-RU" sz="3600" spc="-1" strike="noStrike">
                <a:solidFill>
                  <a:srgbClr val="ff9900"/>
                </a:solidFill>
                <a:latin typeface="Tahoma"/>
              </a:rPr>
              <a:t>а секко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),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темпера, клеевая живопись, восковая живопись, эмаль, живопись керамическая, силикатными, синтетическими красками, мозаика, витраж; акварель, гуашь, пастел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итраж собора в Шартре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5148360" y="5300640"/>
            <a:ext cx="366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Фрес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монастыр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Сан – Марк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12" descr="3"/>
          <p:cNvPicPr/>
          <p:nvPr/>
        </p:nvPicPr>
        <p:blipFill>
          <a:blip r:embed="rId1"/>
          <a:stretch/>
        </p:blipFill>
        <p:spPr>
          <a:xfrm>
            <a:off x="468360" y="1557360"/>
            <a:ext cx="3819600" cy="4876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4" descr="1"/>
          <p:cNvPicPr/>
          <p:nvPr/>
        </p:nvPicPr>
        <p:blipFill>
          <a:blip r:embed="rId2"/>
          <a:stretch/>
        </p:blipFill>
        <p:spPr>
          <a:xfrm>
            <a:off x="5076720" y="333360"/>
            <a:ext cx="34704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11:14:00Z</dcterms:created>
  <dc:creator>Наташа</dc:creator>
  <dc:description/>
  <dc:language>en-US</dc:language>
  <cp:lastModifiedBy>Name</cp:lastModifiedBy>
  <dcterms:modified xsi:type="dcterms:W3CDTF">2011-02-03T12:41:54Z</dcterms:modified>
  <cp:revision>26</cp:revision>
  <dc:subject/>
  <dc:title>Виды изобразительного искус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00d0000000000010243000207f6000400038000</vt:lpwstr>
  </property>
</Properties>
</file>